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3C0D-8859-4F07-994C-1A49C93B7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N TOGETHER, THESE ACTIVITIES ARE PART OF A BROADER MOVEMENT IN SUPPORT OF BOTH FORMAL AND INFORMAL PEER PRODUCTION AND DISSEMINATION OF INFORMATION IN A GLOBALLY DISTRIBUTED, VOLUNTEER, AND OPEN NETWORKED ENVIRONMENT. SUCH ACTIVITIES ARE BASED ON PRINCIPLES THAT REFLECT THE COOPERATIVE ETHOS THAT TRADITIONALLY HAS EMBUED MUCH OF ACADEMIC AND CIVIL GOVERNMENT RESEARCH INSTITUTIONS; THEIR NORMS AND GOVERNANCE MECHANISMS MAY BE CHARACTERIZED AS THOSE OF A PUBLIC INFORMATION COMMONS, RATHER THAN OF A MARKET SYSTEM BASED ON PROPRIETARY DATA AND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FFDB1-8D4C-46E0-A844-48E9954CD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6D175-FB82-4E91-B66A-6BC9C60FE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BAB35-DB94-49F1-9959-F2673BC53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3284C-0788-40E8-87D4-072F54C72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03BA6-43FB-476C-BBF3-124E308B7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2CD8D-EA6E-4487-8E19-8C79328CC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36E5D-5E77-45A0-B0C5-878985E32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8D79B-1F62-4F00-BB05-5556E5676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049D7-0716-48C5-8180-AE20CA205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78826-6859-4995-8CCC-23B47849F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E2B2C-CF7D-4E7A-A8EA-3E24D66F9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46AD9-F819-472E-ABE4-8BCDF3F9C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EE910-97AA-49AA-89C8-059FD2FF0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66CD6-88BF-429D-8487-0D176A2E8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5005B-BFEE-4767-A138-F2F475A4D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9A524-AB69-481A-936A-8AA424247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D8413-23E7-4D4F-953F-A5DD6F09B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9452F-5091-42AB-94AC-FDFFF55F6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55383-AA76-4F04-BC8B-5EF11A8ED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09BA-0484-4CA0-8A1B-BDA01856A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7A4D-7195-42B7-9EC0-1CD7F5550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E634F-79F4-4A0B-BAFE-D1430842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0417D-C47A-4CF0-9B76-EE5825DD7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01A3-E821-4314-BBFA-8164CB856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87B8-1D3A-4046-ABBE-1EE36D4CE33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4A64-48D4-4256-A6AF-66673DC7E27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400" spc="-1" strike="noStrike">
                <a:solidFill>
                  <a:srgbClr val="006633"/>
                </a:solidFill>
                <a:latin typeface="Garamond"/>
                <a:ea typeface="ＭＳ Ｐゴシック"/>
              </a:rPr>
              <a:t>Recent Developments and Future Challenges in </a:t>
            </a:r>
            <a:br>
              <a:rPr sz="2400"/>
            </a:br>
            <a:r>
              <a:rPr b="1" i="1" lang="en-US" sz="2400" spc="-1" strike="noStrike">
                <a:solidFill>
                  <a:srgbClr val="006633"/>
                </a:solidFill>
                <a:latin typeface="Garamond"/>
                <a:ea typeface="ＭＳ Ｐゴシック"/>
              </a:rPr>
              <a:t>Data Policy</a:t>
            </a:r>
            <a:br>
              <a:rPr sz="2400"/>
            </a:br>
            <a:br>
              <a:rPr sz="2000"/>
            </a:br>
            <a:r>
              <a:rPr b="1" i="1" lang="en-US" sz="2000" spc="-1" strike="noStrike">
                <a:solidFill>
                  <a:srgbClr val="006633"/>
                </a:solidFill>
                <a:latin typeface="Garamond"/>
              </a:rPr>
              <a:t>Earth Science Information Partnership</a:t>
            </a:r>
            <a:br>
              <a:rPr sz="2000"/>
            </a:br>
            <a:r>
              <a:rPr b="1" i="1" lang="en-US" sz="2000" spc="-1" strike="noStrike">
                <a:solidFill>
                  <a:srgbClr val="006633"/>
                </a:solidFill>
                <a:latin typeface="Garamond"/>
              </a:rPr>
              <a:t>6 January 2009</a:t>
            </a:r>
            <a:br>
              <a:rPr sz="2000"/>
            </a:br>
            <a:endParaRPr b="0" lang="en-US" sz="2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ul F. Uhlir</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Board on Research Data and Information</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National Academie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hington, DC</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uhlir@nas.ed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Implementation Guidelines for GEO Data Sharing Principles</a:t>
            </a:r>
            <a:endParaRPr b="0" lang="en-US" sz="20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Promoting implementation of the principle of </a:t>
            </a:r>
            <a:r>
              <a:rPr b="1" lang="en-US" sz="1700" spc="-1" strike="noStrike">
                <a:solidFill>
                  <a:srgbClr val="000000"/>
                </a:solidFill>
                <a:latin typeface="Arial"/>
                <a:ea typeface="ＭＳ Ｐゴシック"/>
              </a:rPr>
              <a:t>full and open exchange of data </a:t>
            </a:r>
            <a:r>
              <a:rPr b="0" lang="en-US" sz="1700" spc="-1" strike="noStrike">
                <a:solidFill>
                  <a:srgbClr val="000000"/>
                </a:solidFill>
                <a:latin typeface="Arial"/>
                <a:ea typeface="ＭＳ Ｐゴシック"/>
              </a:rPr>
              <a:t>in accordance with the GEOSS Data Sharing Principle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couraging GEOSS users to </a:t>
            </a:r>
            <a:r>
              <a:rPr b="1" lang="en-US" sz="1700" spc="-1" strike="noStrike">
                <a:solidFill>
                  <a:srgbClr val="000000"/>
                </a:solidFill>
                <a:latin typeface="Arial"/>
              </a:rPr>
              <a:t>reuse and re-disseminate</a:t>
            </a:r>
            <a:r>
              <a:rPr b="0" lang="en-US" sz="1700" spc="-1" strike="noStrike">
                <a:solidFill>
                  <a:srgbClr val="000000"/>
                </a:solidFill>
                <a:latin typeface="Arial"/>
              </a:rPr>
              <a:t> shared data, metadata, and product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ing </a:t>
            </a:r>
            <a:r>
              <a:rPr b="1" lang="en-US" sz="1700" spc="-1" strike="noStrike">
                <a:solidFill>
                  <a:srgbClr val="000000"/>
                </a:solidFill>
                <a:latin typeface="Arial"/>
              </a:rPr>
              <a:t>consistency</a:t>
            </a:r>
            <a:r>
              <a:rPr b="0" lang="en-US" sz="1700" spc="-1" strike="noStrike">
                <a:solidFill>
                  <a:srgbClr val="000000"/>
                </a:solidFill>
                <a:latin typeface="Arial"/>
              </a:rPr>
              <a:t> in the implementation of the GEOSS Data Sharing Principles with relevant international instruments and national policies and legislation</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lementing </a:t>
            </a:r>
            <a:r>
              <a:rPr b="1" lang="en-US" sz="1700" spc="-1" strike="noStrike">
                <a:solidFill>
                  <a:srgbClr val="000000"/>
                </a:solidFill>
                <a:latin typeface="Arial"/>
              </a:rPr>
              <a:t>pricing policies</a:t>
            </a:r>
            <a:r>
              <a:rPr b="0" lang="en-US" sz="1700" spc="-1" strike="noStrike">
                <a:solidFill>
                  <a:srgbClr val="000000"/>
                </a:solidFill>
                <a:latin typeface="Arial"/>
              </a:rPr>
              <a:t> consistent with the GEOSS Data Sharing Principle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ducing the </a:t>
            </a:r>
            <a:r>
              <a:rPr b="1" lang="en-US" sz="1700" spc="-1" strike="noStrike">
                <a:solidFill>
                  <a:srgbClr val="000000"/>
                </a:solidFill>
                <a:latin typeface="Arial"/>
              </a:rPr>
              <a:t>time delays</a:t>
            </a:r>
            <a:r>
              <a:rPr b="0" lang="en-US" sz="1700" spc="-1" strike="noStrike">
                <a:solidFill>
                  <a:srgbClr val="000000"/>
                </a:solidFill>
                <a:latin typeface="Arial"/>
              </a:rPr>
              <a:t> for making data available through GEOS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moting </a:t>
            </a:r>
            <a:r>
              <a:rPr b="1" lang="en-US" sz="1700" spc="-1" strike="noStrike">
                <a:solidFill>
                  <a:srgbClr val="000000"/>
                </a:solidFill>
                <a:latin typeface="Arial"/>
              </a:rPr>
              <a:t>research and education uses</a:t>
            </a:r>
            <a:r>
              <a:rPr b="0" lang="en-US" sz="1700" spc="-1" strike="noStrike">
                <a:solidFill>
                  <a:srgbClr val="000000"/>
                </a:solidFill>
                <a:latin typeface="Arial"/>
              </a:rPr>
              <a:t> of GEOSS data</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ing </a:t>
            </a:r>
            <a:r>
              <a:rPr b="1" lang="en-US" sz="1700" spc="-1" strike="noStrike">
                <a:solidFill>
                  <a:srgbClr val="000000"/>
                </a:solidFill>
                <a:latin typeface="Arial"/>
              </a:rPr>
              <a:t>metrics and indicators</a:t>
            </a:r>
            <a:r>
              <a:rPr b="0" lang="en-US" sz="1700" spc="-1" strike="noStrike">
                <a:solidFill>
                  <a:srgbClr val="000000"/>
                </a:solidFill>
                <a:latin typeface="Arial"/>
              </a:rPr>
              <a:t> for GEOSS data sharing activitie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ing effective </a:t>
            </a:r>
            <a:r>
              <a:rPr b="1" lang="en-US" sz="1700" spc="-1" strike="noStrike">
                <a:solidFill>
                  <a:srgbClr val="000000"/>
                </a:solidFill>
                <a:latin typeface="Arial"/>
              </a:rPr>
              <a:t>coordination and outreach mechanisms</a:t>
            </a:r>
            <a:r>
              <a:rPr b="0" lang="en-US" sz="1700" spc="-1" strike="noStrike">
                <a:solidFill>
                  <a:srgbClr val="000000"/>
                </a:solidFill>
                <a:latin typeface="Arial"/>
              </a:rPr>
              <a:t> for implementing the GEOSS Data Sharing Principles</a:t>
            </a:r>
            <a:endParaRPr b="0" lang="en-US" sz="1700" spc="-1" strike="noStrike">
              <a:solidFill>
                <a:srgbClr val="000000"/>
              </a:solidFill>
              <a:latin typeface="Arial"/>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7542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ＭＳ Ｐゴシック"/>
              </a:rPr>
              <a:t>WHITE PAPER ON THE GEOSS DATA SHARING PRINCIPLES (Draft)</a:t>
            </a:r>
            <a:endParaRPr b="0" lang="en-US" sz="15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CODATA, Paris</a:t>
            </a:r>
            <a:endParaRPr b="0" lang="en-US" sz="13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2009</a:t>
            </a:r>
            <a:endParaRPr b="0" lang="en-US" sz="13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ea typeface="ＭＳ Ｐゴシック"/>
              </a:rPr>
              <a:t>TABLE OF CONTENTS</a:t>
            </a:r>
            <a:endParaRPr b="0" lang="en-US" sz="13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u="sng">
                <a:solidFill>
                  <a:srgbClr val="000000"/>
                </a:solidFill>
                <a:uFillTx/>
                <a:latin typeface="Arial"/>
                <a:ea typeface="ＭＳ Ｐゴシック"/>
              </a:rPr>
              <a:t>Page</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I.  INTRODUCTION</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3</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II.  OVERVIEW OF DATA SHARING LAWS, PRINCIPLES,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7</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ND POLICIES</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III. ILLUSTRATIVE CASE STUDIES</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36</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IV. IMPLEMENTATION ISSUES FOR GEOSS DATA</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43</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SHARING PRINCIPLES </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CES</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54</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x A – Contributors to this Report</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x B – References</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x C – Regional European Data Sharing Policies</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x D – National Remote Sensing Laws and Polici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O Task Group DA-06-01 </a:t>
            </a:r>
            <a:r>
              <a:rPr b="0" lang="en-US" sz="1800" spc="-1" strike="noStrike">
                <a:solidFill>
                  <a:srgbClr val="000000"/>
                </a:solidFill>
                <a:latin typeface="Arial"/>
              </a:rPr>
              <a:t>Core Author Group</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F. Uhlir, Chair of Core Author Group</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Chen, DA-06-01 Task Group Leade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anne Irene Gabrynowicz</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leen Janssen</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les Barton</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k Hil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ECD Recommendation on Principles and Guidelines for Access to Research Data from Public Funding (20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arenc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conformity (with other existing laws)</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ion of intellectual proper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l responsibil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ionalism</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operabil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icienc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ECD Recommendation of the Council for Enhanced Access  to and More Effective Use of Public Sector Information (2008)</a:t>
            </a:r>
            <a:endParaRPr b="0" lang="en-US" sz="20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and transparent conditions for re-use</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lists</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technologies and long-term preservation</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right</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ing</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on</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ress mechanisms</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private partnerships</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tional access and use</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ractices</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Policy Developments in the European Union</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 for Spatial Information in the European Community (INSPIRE) Directive (2007)</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ve on Public Access to Environmental Information (2003)</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ve on the Reuse of Public Sector Information (2003)</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ve on the Legal Protection of Databases (1996, reviewed 2006)</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national policies by Member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ed Data Policy Developments in Developing Countrie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na Scientific Data Sharing Program (2003)</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African National Policy on Access to Public Research Data</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ean National Program of Research Data and Scientific and Technical Information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policy developments in the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STC Inter-Agency Working Group on Digital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coordination</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tional coordination</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 and workforce</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research</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systems development and deployment</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assurance</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quality</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and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Challenges</a:t>
            </a:r>
            <a:endParaRPr b="0" lang="en-US" sz="24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nes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 property rights for data</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classification</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private partnership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o-cultural norms and attitude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 sustainability of data collection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d knowledge discovery</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open knowledge environment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decision making</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develop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4300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antages of open data access and unrestricted reuse for science:</a:t>
            </a:r>
            <a:endParaRPr b="0" lang="en-US" sz="18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Promotes interdisciplinary, inter-institutional, and international research;</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Enables automated knowledge discovery;</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s duplication of research and promotes new research and new types of research;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forces open scientific inquiry and encourages diversity of analysis and opinion;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Allows for the verification of previous results;</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s possible the testing of new or alternative hypotheses and methods of analysis;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orts studies on data collection methods and measurement;</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cilitates the education of new researchers;</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the exploration of topics not envisioned by the initial investigators;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mits the creation of new data sets when data from multiple sources are combined;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Facilitates transfer of information North -&gt; South and South &lt;-&gt; South;</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Promotes capacity building in developing countries; and</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Generally helps to maximize the research potential of new digital resources and technologies, providing greater returns from public investments in research.</a:t>
            </a:r>
            <a:r>
              <a:rPr b="0" lang="en-US" sz="1600" spc="-1" strike="noStrike">
                <a:solidFill>
                  <a:srgbClr val="9966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rPr>
              <a:t>Many other advantages and justifications outside researc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Compelling reasons for placing government-generated data and information in the public domain or under common-use conditions:</a:t>
            </a:r>
            <a:endParaRPr b="0" lang="en-US" sz="1700" spc="-1" strike="noStrike">
              <a:solidFill>
                <a:srgbClr val="000000"/>
              </a:solidFill>
              <a:latin typeface="Arial"/>
            </a:endParaRPr>
          </a:p>
          <a:p>
            <a:pPr marL="343080" indent="-343080">
              <a:lnSpc>
                <a:spcPct val="80000"/>
              </a:lnSpc>
              <a:spcBef>
                <a:spcPts val="425"/>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rPr>
              <a:t>Legal. </a:t>
            </a:r>
            <a:r>
              <a:rPr b="1" lang="en-US" sz="1700" spc="-1" strike="noStrike">
                <a:solidFill>
                  <a:srgbClr val="000000"/>
                </a:solidFill>
                <a:latin typeface="Arial"/>
              </a:rPr>
              <a:t>A government entity needs no legal incentives from exclusive property rights to create information. Both the activities that the government undertakes and the information produced by it in the course of those activities are a [global] public good.</a:t>
            </a:r>
            <a:endParaRPr b="0" lang="en-US" sz="1700" spc="-1" strike="noStrike">
              <a:solidFill>
                <a:srgbClr val="000000"/>
              </a:solidFill>
              <a:latin typeface="Arial"/>
            </a:endParaRPr>
          </a:p>
          <a:p>
            <a:pPr marL="343080" indent="-343080">
              <a:lnSpc>
                <a:spcPct val="80000"/>
              </a:lnSpc>
              <a:spcBef>
                <a:spcPts val="400"/>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rPr>
              <a:t>Socioeconomic</a:t>
            </a:r>
            <a:r>
              <a:rPr b="1" i="1" lang="en-US" sz="1700" spc="-1" strike="noStrike">
                <a:solidFill>
                  <a:srgbClr val="000000"/>
                </a:solidFill>
                <a:latin typeface="Arial"/>
              </a:rPr>
              <a:t>.</a:t>
            </a:r>
            <a:r>
              <a:rPr b="1" lang="en-US" sz="1700" spc="-1" strike="noStrike">
                <a:solidFill>
                  <a:srgbClr val="000000"/>
                </a:solidFill>
                <a:latin typeface="Arial"/>
              </a:rPr>
              <a:t> Many economic and non-economic positive externalities. Network effects can be realized on an exponential basis through the open dissemination of data and information online.</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25"/>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rPr>
              <a:t>Ethical</a:t>
            </a:r>
            <a:r>
              <a:rPr b="1" i="1" lang="en-US" sz="1700" spc="-1" strike="noStrike">
                <a:solidFill>
                  <a:srgbClr val="000000"/>
                </a:solidFill>
                <a:latin typeface="Arial"/>
              </a:rPr>
              <a:t>. </a:t>
            </a:r>
            <a:r>
              <a:rPr b="1" lang="en-US" sz="1700" spc="-1" strike="noStrike">
                <a:solidFill>
                  <a:srgbClr val="000000"/>
                </a:solidFill>
                <a:latin typeface="Arial"/>
              </a:rPr>
              <a:t>The public has already paid for the production of the information. Burden of additional access fees falls disproportionately on the individuals least able to pay. Open access benefits the poor and disadvantaged.</a:t>
            </a:r>
            <a:endParaRPr b="0" lang="en-US" sz="1700" spc="-1" strike="noStrike">
              <a:solidFill>
                <a:srgbClr val="000000"/>
              </a:solidFill>
              <a:latin typeface="Arial"/>
            </a:endParaRPr>
          </a:p>
          <a:p>
            <a:pPr marL="343080" indent="-343080">
              <a:lnSpc>
                <a:spcPct val="80000"/>
              </a:lnSpc>
              <a:spcBef>
                <a:spcPts val="425"/>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rPr>
              <a:t>Political</a:t>
            </a:r>
            <a:r>
              <a:rPr b="1" i="1" lang="en-US" sz="1700" spc="-1" strike="noStrike">
                <a:solidFill>
                  <a:srgbClr val="000000"/>
                </a:solidFill>
                <a:latin typeface="Arial"/>
              </a:rPr>
              <a:t>.</a:t>
            </a:r>
            <a:r>
              <a:rPr b="0" lang="en-US" sz="1700" spc="-1" strike="noStrike">
                <a:solidFill>
                  <a:srgbClr val="000000"/>
                </a:solidFill>
                <a:latin typeface="Arial"/>
              </a:rPr>
              <a:t> </a:t>
            </a:r>
            <a:r>
              <a:rPr b="1" lang="en-US" sz="1700" spc="-1" strike="noStrike">
                <a:solidFill>
                  <a:srgbClr val="000000"/>
                </a:solidFill>
                <a:latin typeface="Arial"/>
              </a:rPr>
              <a:t>Transparency of governance is undermined by restricting citizens from access to and use of public data and information. Rights of freedom of expression and information are compromised by restrictions on re-dissemination of public information, particularly of factual dat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000" spc="-1" strike="noStrike">
                <a:solidFill>
                  <a:srgbClr val="000000"/>
                </a:solidFill>
                <a:latin typeface="Arial"/>
              </a:rPr>
              <a:t>Broad implications of excessive restrictions (economic, legal, technical) on access to and reuse of data and information from public sources:</a:t>
            </a:r>
            <a:endParaRPr b="0" lang="en-US" sz="20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research costs</a:t>
            </a: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t opportunity costs </a:t>
            </a: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iers to innovation</a:t>
            </a: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effective scientific cooperation and education</a:t>
            </a: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ning gap between OECD and developing countries</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penness</a:t>
            </a:r>
            <a:r>
              <a:rPr b="1" lang="en-US" sz="2000" spc="-1" strike="noStrike">
                <a:solidFill>
                  <a:srgbClr val="000000"/>
                </a:solidFill>
                <a:latin typeface="Arial"/>
              </a:rPr>
              <a:t> thus should be the default rule, subject only to legitimate and well-justified exceptions</a:t>
            </a:r>
            <a:endParaRPr b="0" lang="en-US" sz="20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14300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s promoting greater openness:</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beralization of public information regimes after Cold War</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e of the globally networked cyberinfrastructure</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aradigms of open science and digital common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s favoring greater secrecy and proprietary restrictions:</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pressures on discretionary public expenditures leading to both privatization and commercialization of data</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Rs increasingly broader, deeper, longer, stronger  </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security based restrictions (increased post 9/11)</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s in flux as scientific community adjusts to conflicting trends</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ectual property rights in dat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class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private partnersh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o-cultural norms and attitu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14156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term sustainability of data coll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d knowledge dis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open knowledge enviro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digital commons models and emerging open knowledge environ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source software movement (e.g., Linux and 10Ks of other programs worldwide, many of which originated in academia for research applications);</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tributed Grid computing or </a:t>
            </a:r>
            <a:r>
              <a:rPr b="1" i="1" lang="en-GB" sz="1600" spc="-1" strike="noStrike">
                <a:solidFill>
                  <a:srgbClr val="000000"/>
                </a:solidFill>
                <a:latin typeface="Arial"/>
              </a:rPr>
              <a:t>e-</a:t>
            </a:r>
            <a:r>
              <a:rPr b="1" lang="en-GB" sz="1600" spc="-1" strike="noStrike">
                <a:solidFill>
                  <a:srgbClr val="000000"/>
                </a:solidFill>
                <a:latin typeface="Arial"/>
              </a:rPr>
              <a:t>science (e.g., SETI@Home, LHC@Home);</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 data centers and archives (e.g., GenBank);</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ederated open data networks (e.g., World Data Center Service, Global Biodiversity Information Facility, NASA DAACs);</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 access journals (e.g., PLOS + &gt; 3600 scholarly journals, many in developing world—SciELO, Bioline International);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 repositories for an institution’s scholarly works (e.g., the Indian Institute for Science, + &gt; 300 formally registered globally)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 repositories for publications in a specific subject area (e.g., the physics arXiv, CogPrints, PubMedCentral);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ee university curricula and lectures online (e.g., the MIT OpenCourseWare);</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ing discipline or applications commons and integrated open knowledge environments (e.g., neurocommon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decision ma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itional works by the author on this topic (all available freely online):</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its of Power: Issues in Global Access to Scientific Data (NAS, 1997)</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Role of S&amp;T Data and Information in the Public Domain (NAS, 2003)</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ichman, J.H. and Paul F. Uhlir, “A Contractually Reconstructed Research Commons for Scientific Data in a Highly Protectionist Intellectual Property Environment, 66 Law &amp; Contemporary Problems 315-462 (2003)</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ESCO Policy Guidelines for the Development and Promotion of Governmental Public Domain Information (2004) </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en Access and the Public Domain in Digital Data and Information for Science (NAS, 2004)</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ategies for Open Access to and Preservation of Scientific Data in China (NAS, 2006)</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hlir &amp; Schr</a:t>
            </a:r>
            <a:r>
              <a:rPr b="1" i="1" lang="en-US" sz="1800" spc="-1" strike="noStrike">
                <a:solidFill>
                  <a:srgbClr val="000000"/>
                </a:solidFill>
                <a:latin typeface="Arial"/>
                <a:ea typeface="Arial"/>
              </a:rPr>
              <a:t>ö</a:t>
            </a:r>
            <a:r>
              <a:rPr b="1" i="1" lang="en-US" sz="1800" spc="-1" strike="noStrike">
                <a:solidFill>
                  <a:srgbClr val="000000"/>
                </a:solidFill>
                <a:latin typeface="Arial"/>
              </a:rPr>
              <a:t>der, “Open Data for Global Science”, Data Science Journal, CODATA, (2007).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14300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141560" y="91440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14156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14300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Data Policy Develop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haring Principles of the Group on Earth Observations </a:t>
            </a:r>
            <a:endParaRPr b="0" lang="en-US" sz="2000" spc="-1" strike="noStrike">
              <a:solidFill>
                <a:srgbClr val="000000"/>
              </a:solidFill>
              <a:latin typeface="Arial"/>
            </a:endParaRPr>
          </a:p>
          <a:p>
            <a:pPr marL="343080" indent="-343080">
              <a:lnSpc>
                <a:spcPct val="80000"/>
              </a:lnSpc>
              <a:spcBef>
                <a:spcPts val="42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re will be </a:t>
            </a:r>
            <a:r>
              <a:rPr b="1" lang="en-US" sz="1700" spc="-1" strike="noStrike">
                <a:solidFill>
                  <a:srgbClr val="000000"/>
                </a:solidFill>
                <a:latin typeface="Arial"/>
              </a:rPr>
              <a:t>full and open exchange of data, metadata, and products</a:t>
            </a:r>
            <a:r>
              <a:rPr b="0" lang="en-US" sz="1700" spc="-1" strike="noStrike">
                <a:solidFill>
                  <a:srgbClr val="000000"/>
                </a:solidFill>
                <a:latin typeface="Arial"/>
              </a:rPr>
              <a:t> shared within GEOSS, </a:t>
            </a:r>
            <a:r>
              <a:rPr b="0" i="1" lang="en-US" sz="1700" spc="-1" strike="noStrike">
                <a:solidFill>
                  <a:srgbClr val="000000"/>
                </a:solidFill>
                <a:latin typeface="Arial"/>
              </a:rPr>
              <a:t>recognizing relevant international instruments and national policies and legislation</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 shared data, metadata, and products will be made available with </a:t>
            </a:r>
            <a:r>
              <a:rPr b="1" lang="en-US" sz="1700" spc="-1" strike="noStrike">
                <a:solidFill>
                  <a:srgbClr val="000000"/>
                </a:solidFill>
                <a:latin typeface="Arial"/>
              </a:rPr>
              <a:t>minimum time delay </a:t>
            </a:r>
            <a:r>
              <a:rPr b="0" lang="en-US" sz="1700" spc="-1" strike="noStrike">
                <a:solidFill>
                  <a:srgbClr val="000000"/>
                </a:solidFill>
                <a:latin typeface="Arial"/>
              </a:rPr>
              <a:t>and</a:t>
            </a:r>
            <a:r>
              <a:rPr b="1" lang="en-US" sz="1700" spc="-1" strike="noStrike">
                <a:solidFill>
                  <a:srgbClr val="000000"/>
                </a:solidFill>
                <a:latin typeface="Arial"/>
              </a:rPr>
              <a:t> at minimum cost</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 shared data, metadata, and products being </a:t>
            </a:r>
            <a:r>
              <a:rPr b="1" lang="en-US" sz="1700" spc="-1" strike="noStrike">
                <a:solidFill>
                  <a:srgbClr val="000000"/>
                </a:solidFill>
                <a:latin typeface="Arial"/>
              </a:rPr>
              <a:t>free of charge or no more than cost of reproduction</a:t>
            </a:r>
            <a:r>
              <a:rPr b="0" lang="en-US" sz="1700" spc="-1" strike="noStrike">
                <a:solidFill>
                  <a:srgbClr val="000000"/>
                </a:solidFill>
                <a:latin typeface="Arial"/>
              </a:rPr>
              <a:t> will be </a:t>
            </a:r>
            <a:r>
              <a:rPr b="0" i="1" lang="en-US" sz="1700" spc="-1" strike="noStrike">
                <a:solidFill>
                  <a:srgbClr val="000000"/>
                </a:solidFill>
                <a:latin typeface="Arial"/>
              </a:rPr>
              <a:t>encouraged</a:t>
            </a:r>
            <a:r>
              <a:rPr b="0" lang="en-US" sz="1700" spc="-1" strike="noStrike">
                <a:solidFill>
                  <a:srgbClr val="000000"/>
                </a:solidFill>
                <a:latin typeface="Arial"/>
              </a:rPr>
              <a:t> for </a:t>
            </a:r>
            <a:r>
              <a:rPr b="1" lang="en-US" sz="1700" spc="-1" strike="noStrike">
                <a:solidFill>
                  <a:srgbClr val="000000"/>
                </a:solidFill>
                <a:latin typeface="Arial"/>
              </a:rPr>
              <a:t>research and education</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0" algn="r">
              <a:lnSpc>
                <a:spcPct val="8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OSS 10-Year Implementation Plan, adopted 16 February 2005</a:t>
            </a:r>
            <a:br>
              <a:rPr sz="1100"/>
            </a:br>
            <a:r>
              <a:rPr b="0" i="1" lang="en-US" sz="1100" spc="-1" strike="noStrike">
                <a:solidFill>
                  <a:srgbClr val="000000"/>
                </a:solidFill>
                <a:latin typeface="Arial"/>
              </a:rPr>
              <a:t>(emphasis added)</a:t>
            </a:r>
            <a:r>
              <a:rPr b="1" lang="en-US" sz="1100" spc="-1" strike="noStrike">
                <a:solidFill>
                  <a:srgbClr val="000000"/>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2T03:56:14Z</dcterms:created>
  <dc:creator>ITS</dc:creator>
  <dc:description/>
  <dc:language>en-US</dc:language>
  <cp:lastModifiedBy> </cp:lastModifiedBy>
  <dcterms:modified xsi:type="dcterms:W3CDTF">2009-01-06T15:22:59Z</dcterms:modified>
  <cp:revision>99</cp:revision>
  <dc:subject/>
  <dc:title>The Role, Value, and Limits of Scientific Data and Information  in the Public Domain Presentation for the Conference on National Facilities and Information Infrastructure for Science and Technology in China</dc:title>
</cp:coreProperties>
</file>